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49D19-DEDB-4E8C-B3E3-D696E6EE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C2DC6-3520-4A8D-BBFB-8FD7073D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B348B-236B-4437-91CF-75E13772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71F18-FB8F-4CF1-83A9-28E2E51A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2DAB-E0FF-4862-9CAF-8F0F9EF2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EADD5-3180-4C9D-A8D2-3BF79ADC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E7C8-CA05-4BC8-92DF-3DFCD8E5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9C50-70C2-4D8D-9988-44CF337D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4C83-75E1-4F3D-99BC-4842F7DF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5573-3F94-4C4B-A12C-CD2E1813C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58DF-63DD-416C-BC13-B2EDCB31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EB2A4-FD69-4105-914C-31DBD660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B78F-84EF-4E3F-BD36-9F883F60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927D-402D-4781-809B-F85F0EFB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ECD7-41B6-49B5-B977-15F4469C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F322-6EC0-4E78-87BC-1BA3633D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0CE16-537A-4D9C-AEEB-124F5113C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FEA49-CDCA-4C01-A2BE-12618BCF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233D2-BEC4-4425-BF4F-82BAA3DF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3F922-390E-4CD0-8077-2A5BD27B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D6EE5-3EC3-475E-A287-A70470EE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73A82-DC2A-43BC-8965-9DBE7554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0ED49-F45D-4CBD-8D5A-A63E37A2A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735D5-85CB-439B-A8F8-49F6EEDC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C11E-F8C8-41A1-B028-61D83DFA33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AF74-5F00-43BF-A8A6-402E3B88AF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10720" y="2491920"/>
            <a:ext cx="7937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«Подготовка к итоговой контрольной работе по экономике»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419640" y="5013360"/>
            <a:ext cx="518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5  класс</a:t>
            </a:r>
            <a:endParaRPr b="1" lang="en-US" sz="4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26920" y="404640"/>
            <a:ext cx="7561440" cy="121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Урок по теме: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2087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1.Термину слева подбери</a:t>
            </a:r>
            <a:br>
              <a:rPr sz="2800"/>
            </a:b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  его значение справа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79280" y="1484280"/>
            <a:ext cx="3672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1. Деньг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2. Натуральное хозяй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3. Потребле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4. Торговл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5. Товарное хозяй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6. Правитель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7. Маркетин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8. Коммерческая организац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634920" y="1557000"/>
            <a:ext cx="5210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А) вид деятельности, позволяющий встретится продавцу и покупателю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Б) хозяйство, в котором производят товар не для личного потребления, а для обмен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В) то, что признается людьми и выполняет их функции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Г) использование потребительских свойств товаров себе во благ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Д) хозяйство, в котором человек производит сам все необходимое для жизн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Е) исполнительная власть государств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Ж) организация, которая приносит прибыл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З) обмен товара на деньг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ПРОВЕРЬ СЕБ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44400" y="1600200"/>
            <a:ext cx="170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8. Ж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2. Реши задачи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 продажу 7 изготовленных ею ковровых дорожек жена Ивана- Царевича Василиса Премудрая получила 1771 ван. Жены же братьев Ивана-Царевича изготовили 6 таких же по качеству ковровых дорожек и выручили за них 1614 ванов. Чьи дорожки покупать выгодне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ПРОВЕРЬ СЕБ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) 1771 : 7 = 253 ( ван) – цена Васили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) 1614 : 6 = 269 ( ван) – цена жён братье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) 269 – 253 = 16 ( ва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ОТВЕТ :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Выгоднее покупать ковровые дорожки у Василисы, так как они дешеле на 16 ван, чем у жён братье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ccffff"/>
                </a:solidFill>
                <a:uFillTx/>
                <a:latin typeface="Monotype Corsiva"/>
              </a:rPr>
              <a:t>Закончите фразу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900760" y="2852640"/>
            <a:ext cx="3243240" cy="3783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400120" cy="3600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 rot="19905600">
            <a:off x="528120" y="3162240"/>
            <a:ext cx="808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Сегодня на уроке я вспомнил 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Georgia"/>
              </a:rPr>
              <a:t>Домашнее зад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. Повторить материал со ст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. Реши задачу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заготовительной конторе у Лешего работали 13 рабочих. Ежемесячно он выделял 2/ 9 части общего дохода, равного 1 404 берестеня, на заработную плату рабочих. В результате неурожая грибов объем заготовок резко снизился, и доход упал на 540 берестеней. Сколько рабочих должен уволить Леший, чтобы оставшиеся работники получали прежнюю зарплату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240000" cy="3057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187280" y="112536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Желаю удачи!</a:t>
            </a:r>
            <a:endParaRPr b="1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Georgia"/>
              </a:rPr>
              <a:t>Теоретическая част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. Природные ресурсы. Охрана приро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.Человек и общество (Собственность, государство, организация, домашнее хозяйство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. Виды хозяйств (Натуральное и товарное хозяйство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. Рождение денег. Торговл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5. Рыночный механизм (спрос, предложение, рыночная цена, маркетинг, реклама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6. Виды хозяйственной деятель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1. Природные ресурсы. Охрана природы.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92360" y="1628280"/>
            <a:ext cx="5353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Что такое природные ресурсы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Приведите примеры природных ресур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Как охраняют окружающую природ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Зачем необходимо охранять природ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3635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Georgia"/>
              </a:rPr>
              <a:t>2.Человек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Georgia"/>
              </a:rPr>
              <a:t>и общество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03280" y="1341360"/>
            <a:ext cx="5559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Что такое собственность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акие виды собственности вы знаете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 какому виду собственности можно отнести валенки, АО«Кровля»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 Что такое государство, организация, домашнее хозяйство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300720" y="4221000"/>
            <a:ext cx="2592360" cy="2436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2879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3. Виды хозяйств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Чем отличается  натуральное хозяйство от  товарного хозяйств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риведите примеры натурального и товарного хозяйств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На каком рисунке  вы видите пример натурального хозяйства и товарного хозяйства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03640" y="3567240"/>
            <a:ext cx="3816360" cy="2806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916360" y="638172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1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00000" y="2924280"/>
            <a:ext cx="3149640" cy="3433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6372360" y="652464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2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4. Рождение денег. Торговля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11280" y="1267920"/>
            <a:ext cx="6732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деньги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акие функции выполняют деньг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акие виды денег вы знае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бартер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торговля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пределите на каком рисунке представлена формула бартера,  а на каком формула торговл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093760" cy="2305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611280" y="5013360"/>
            <a:ext cx="29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5e5ff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Т - Д - Т"</a:t>
            </a:r>
            <a:endParaRPr b="1" lang="en-US" sz="1800" spc="1" strike="noStrike">
              <a:ln w="12600">
                <a:solidFill>
                  <a:srgbClr val="e5e5ff"/>
                </a:solidFill>
                <a:miter/>
              </a:ln>
              <a:solidFill>
                <a:srgbClr val="33cc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724360" y="5084640"/>
            <a:ext cx="2303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5e5ff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Т - Т"</a:t>
            </a:r>
            <a:endParaRPr b="1" lang="en-US" sz="4400" spc="1" strike="noStrike">
              <a:ln w="12600">
                <a:solidFill>
                  <a:srgbClr val="e5e5ff"/>
                </a:solidFill>
                <a:miter/>
              </a:ln>
              <a:solidFill>
                <a:srgbClr val="33cc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76360" y="602136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1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156360" y="602136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2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Georgia"/>
              </a:rPr>
              <a:t>5. Рыночный механиз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йдите ошибки в схе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115640" y="3965760"/>
            <a:ext cx="6548760" cy="1359000"/>
            <a:chOff x="1115640" y="3965760"/>
            <a:chExt cx="6548760" cy="1359000"/>
          </a:xfrm>
        </p:grpSpPr>
        <p:sp>
          <p:nvSpPr>
            <p:cNvPr id="129" name="_s12301"/>
            <p:cNvSpPr/>
            <p:nvPr/>
          </p:nvSpPr>
          <p:spPr>
            <a:xfrm>
              <a:off x="2123640" y="4643280"/>
              <a:ext cx="12240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12300"/>
            <p:cNvSpPr/>
            <p:nvPr/>
          </p:nvSpPr>
          <p:spPr>
            <a:xfrm>
              <a:off x="1115640" y="4150800"/>
              <a:ext cx="1075680" cy="92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514"/>
                  </a:solidFill>
                  <a:latin typeface="Garamond"/>
                </a:rPr>
                <a:t>Спрос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12299"/>
            <p:cNvSpPr/>
            <p:nvPr/>
          </p:nvSpPr>
          <p:spPr>
            <a:xfrm flipV="1">
              <a:off x="5076720" y="4652640"/>
              <a:ext cx="158472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12298"/>
            <p:cNvSpPr/>
            <p:nvPr/>
          </p:nvSpPr>
          <p:spPr>
            <a:xfrm>
              <a:off x="6588720" y="4150800"/>
              <a:ext cx="1075680" cy="92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514"/>
                  </a:solidFill>
                  <a:latin typeface="Garamond"/>
                </a:rPr>
                <a:t>Цена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12295"/>
            <p:cNvSpPr/>
            <p:nvPr/>
          </p:nvSpPr>
          <p:spPr>
            <a:xfrm>
              <a:off x="3419280" y="3965760"/>
              <a:ext cx="1617120" cy="1359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Garamond"/>
                </a:rPr>
                <a:t>Предложени</a:t>
              </a:r>
              <a:r>
                <a:rPr b="0" lang="en-US" sz="1000" spc="-1" strike="noStrike">
                  <a:solidFill>
                    <a:srgbClr val="ffffff"/>
                  </a:solidFill>
                  <a:latin typeface="Garamond"/>
                </a:rPr>
                <a:t>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5148360" y="4076640"/>
            <a:ext cx="1239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ркетиг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124000" y="3933720"/>
            <a:ext cx="145260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5e5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клама</a:t>
            </a:r>
            <a:endParaRPr b="1" lang="en-US" sz="1800" spc="1" strike="noStrike">
              <a:ln w="0">
                <a:noFill/>
              </a:ln>
              <a:solidFill>
                <a:srgbClr val="e5e5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Georgia"/>
              </a:rPr>
              <a:t>6. Виды хозяйственной деятельности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92720" y="1196640"/>
            <a:ext cx="38512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Какие виды хозяйственной деятельности вы знае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Что такое производство, обмен, потреблени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 Есть ли ошибки в схеме? (Если есть, то каки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09080" y="1562760"/>
            <a:ext cx="4640040" cy="3840480"/>
            <a:chOff x="109080" y="1562760"/>
            <a:chExt cx="4640040" cy="3840480"/>
          </a:xfrm>
        </p:grpSpPr>
        <p:sp>
          <p:nvSpPr>
            <p:cNvPr id="139" name="_s13323"/>
            <p:cNvSpPr/>
            <p:nvPr/>
          </p:nvSpPr>
          <p:spPr>
            <a:xfrm>
              <a:off x="1186920" y="1562760"/>
              <a:ext cx="2232000" cy="2610000"/>
            </a:xfrm>
            <a:custGeom>
              <a:avLst/>
              <a:gdLst>
                <a:gd name="textAreaLeft" fmla="*/ 0 w 2232000"/>
                <a:gd name="textAreaRight" fmla="*/ 2232360 w 2232000"/>
                <a:gd name="textAreaTop" fmla="*/ 0 h 2610000"/>
                <a:gd name="textAreaBottom" fmla="*/ 2610360 h 261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651661"/>
                  <a:lnTo>
                    <a:pt x="2423" y="3983"/>
                  </a:lnTo>
                  <a:arcTo wR="10800" hR="10800" stAng="-8451661" swAng="3651661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13324"/>
            <p:cNvSpPr/>
            <p:nvPr/>
          </p:nvSpPr>
          <p:spPr>
            <a:xfrm rot="7200000">
              <a:off x="1886040" y="2552760"/>
              <a:ext cx="2732040" cy="1879920"/>
            </a:xfrm>
            <a:custGeom>
              <a:avLst/>
              <a:gdLst>
                <a:gd name="textAreaLeft" fmla="*/ 0 w 2732040"/>
                <a:gd name="textAreaRight" fmla="*/ 2732040 w 2732040"/>
                <a:gd name="textAreaTop" fmla="*/ 0 h 1879920"/>
                <a:gd name="textAreaBottom" fmla="*/ 1880280 h 187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86" y="14531"/>
                  </a:moveTo>
                  <a:arcTo wR="-3732" hR="-3732" stAng="5320794" swAng="-2320794"/>
                  <a:lnTo>
                    <a:pt x="3858" y="2527"/>
                  </a:lnTo>
                  <a:arcTo wR="10800" hR="10800" stAng="-7800000" swAng="2320794"/>
                  <a:lnTo>
                    <a:pt x="10489" y="-2696"/>
                  </a:lnTo>
                  <a:lnTo>
                    <a:pt x="16865" y="3392"/>
                  </a:lnTo>
                  <a:lnTo>
                    <a:pt x="10776" y="9768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13326"/>
            <p:cNvSpPr/>
            <p:nvPr/>
          </p:nvSpPr>
          <p:spPr>
            <a:xfrm rot="14400000">
              <a:off x="123840" y="2853720"/>
              <a:ext cx="2733480" cy="1612800"/>
            </a:xfrm>
            <a:custGeom>
              <a:avLst/>
              <a:gdLst>
                <a:gd name="textAreaLeft" fmla="*/ 0 w 2733480"/>
                <a:gd name="textAreaRight" fmla="*/ 2733840 w 2733480"/>
                <a:gd name="textAreaTop" fmla="*/ 0 h 1612800"/>
                <a:gd name="textAreaBottom" fmla="*/ 1613160 h 161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15" y="14525"/>
                  </a:moveTo>
                  <a:arcTo wR="-4048" hR="-4048" stAng="6782995" swAng="-3782995"/>
                  <a:lnTo>
                    <a:pt x="3858" y="2527"/>
                  </a:lnTo>
                  <a:arcTo wR="10800" hR="10800" stAng="-7800000" swAng="3782995"/>
                  <a:lnTo>
                    <a:pt x="16086" y="-1622"/>
                  </a:lnTo>
                  <a:lnTo>
                    <a:pt x="19298" y="6348"/>
                  </a:lnTo>
                  <a:lnTo>
                    <a:pt x="11328" y="956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13322"/>
            <p:cNvSpPr/>
            <p:nvPr/>
          </p:nvSpPr>
          <p:spPr>
            <a:xfrm>
              <a:off x="1332000" y="4307760"/>
              <a:ext cx="223200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Потребле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13325"/>
            <p:cNvSpPr/>
            <p:nvPr/>
          </p:nvSpPr>
          <p:spPr>
            <a:xfrm>
              <a:off x="324000" y="1990080"/>
              <a:ext cx="1288440" cy="12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обме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13321"/>
            <p:cNvSpPr/>
            <p:nvPr/>
          </p:nvSpPr>
          <p:spPr>
            <a:xfrm>
              <a:off x="3203640" y="1868040"/>
              <a:ext cx="1375560" cy="14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Производ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55640" y="1773360"/>
            <a:ext cx="7920000" cy="20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рактическая часть</a:t>
            </a:r>
            <a:endParaRPr b="1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6:30:50Z</dcterms:created>
  <dc:creator>User</dc:creator>
  <dc:description/>
  <dc:language>en-US</dc:language>
  <cp:lastModifiedBy>User</cp:lastModifiedBy>
  <dcterms:modified xsi:type="dcterms:W3CDTF">2008-01-27T10:10:38Z</dcterms:modified>
  <cp:revision>3</cp:revision>
  <dc:subject/>
  <dc:title>«Подготовка к итоговой контрольной работе по экономике» </dc:title>
</cp:coreProperties>
</file>